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01B-AF77-4247-9565-3AA0E322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DF4-8FBF-4173-8416-8AE247E9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B60-BA1A-4589-A346-259B4097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D00-07F6-4B06-A30A-A7FE6F4C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638-CA01-4FE4-A43D-CF89CF3A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FD2-3518-494C-BF17-F05651CA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F02-BE67-414F-94FB-EEDDB98D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9D0-924F-413C-9840-220A0418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E90-280A-4130-ADC0-E87E4709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E3A-1901-47AC-9FFF-41711C7A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77E-9123-45E9-BBCA-20477BA0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8BF-6C99-4B23-8ABB-66C9D0A1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9705-1A1F-4785-9858-D2D29E3E357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19440" y="1338120"/>
          <a:ext cx="55069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338120"/>
                    <a:ext cx="55069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1744560"/>
          <a:ext cx="849600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44560"/>
                    <a:ext cx="84960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866960"/>
          <a:ext cx="874872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6960"/>
                    <a:ext cx="874872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996920" y="754200"/>
          <a:ext cx="5151600" cy="53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754200"/>
                    <a:ext cx="5151600" cy="53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2520" y="1125360"/>
          <a:ext cx="823896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125360"/>
                    <a:ext cx="82389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5640" y="1916280"/>
          <a:ext cx="813744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813744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87280" y="1854360"/>
          <a:ext cx="8569440" cy="31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854360"/>
                    <a:ext cx="8569440" cy="31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2019240"/>
          <a:ext cx="77486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019240"/>
                    <a:ext cx="77486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1587600"/>
          <a:ext cx="799128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87600"/>
                    <a:ext cx="799128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00" y="1882800"/>
          <a:ext cx="90090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1882800"/>
                    <a:ext cx="90090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966960"/>
          <a:ext cx="8640720" cy="48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66960"/>
                    <a:ext cx="864072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1822320"/>
          <a:ext cx="8569080" cy="31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22320"/>
                    <a:ext cx="856908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9:37:51Z</dcterms:created>
  <dc:creator>Metis</dc:creator>
  <dc:description/>
  <dc:language>en-US</dc:language>
  <cp:lastModifiedBy>Faleńczyk</cp:lastModifiedBy>
  <dcterms:modified xsi:type="dcterms:W3CDTF">2004-11-15T19:08:46Z</dcterms:modified>
  <cp:revision>17</cp:revision>
  <dc:subject/>
  <dc:title>Slajd 1</dc:title>
</cp:coreProperties>
</file>